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png" ContentType="image/png"/>
  <Override PartName="/ppt/media/image8.png" ContentType="image/png"/>
  <Override PartName="/ppt/media/image4.gif" ContentType="image/gif"/>
  <Override PartName="/ppt/media/image12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770-703A-4962-BF37-C2726291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054-D950-4AD1-8521-6B02E6AE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60D-55FB-4EA4-8F83-41ABE8CC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4CB-87B6-4D68-8BCD-46F46861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6A64-2EFF-489E-9499-07F90A59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52E9-0B41-4E0E-AF36-157A5A9C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D9EA-5138-4A2B-A0D9-35C34BF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995C-530C-44B3-9CFE-B316F12C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7B42-CDC3-41BB-BD75-18EB4757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74E2-E16B-4989-A8FF-ADA8CF2C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7614-B3BD-400D-82D0-0D3C2C24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75F-C4ED-4510-BBAD-5DD9A9BD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3582-0F97-41D9-8EE7-4DF833AF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6869-5097-4291-B68F-E8C3BEFE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81B7-32FA-4E1F-80D4-2808B17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4126-7DA0-4A62-9729-55518857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92C3-A742-483C-A27E-57A14C4C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1D9-BCB4-42A8-8423-09D90C50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F45-A448-41B3-B08F-B973E0D1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811-F198-4E48-B672-68D90249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44E-F6BD-4EC3-98EA-C5EBF7E9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F62-2335-4E29-AB9C-B45D528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588-5508-494C-8AE7-7453F5BF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488-8F12-4B4E-AD3A-05D4CB8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3EAB-EB09-4E79-8E5D-EB264A5A08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0AE8-E5E7-43EA-8329-97F43067D6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ancasterschools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95480" y="2689200"/>
            <a:ext cx="552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36800" y="2360520"/>
            <a:ext cx="705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0dcb0"/>
                </a:solidFill>
                <a:latin typeface="AbcBulletin"/>
              </a:rPr>
              <a:t>Welcome to 3</a:t>
            </a:r>
            <a:r>
              <a:rPr b="1" lang="en-US" sz="6600" spc="-1" strike="noStrike" baseline="30000">
                <a:solidFill>
                  <a:srgbClr val="60dcb0"/>
                </a:solidFill>
                <a:latin typeface="AbcBulletin"/>
              </a:rPr>
              <a:t>rd</a:t>
            </a:r>
            <a:r>
              <a:rPr b="1" lang="en-US" sz="6600" spc="-1" strike="noStrike">
                <a:solidFill>
                  <a:srgbClr val="60dcb0"/>
                </a:solidFill>
                <a:latin typeface="AbcBulletin"/>
              </a:rPr>
              <a:t> Grad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989600" y="5467320"/>
            <a:ext cx="311616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omework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603520" y="3475080"/>
            <a:ext cx="4083120" cy="122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ponsi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72880" y="361800"/>
            <a:ext cx="389268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epende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/>
          </p:cNvPr>
          <p:cNvSpPr/>
          <p:nvPr/>
        </p:nvSpPr>
        <p:spPr>
          <a:xfrm>
            <a:off x="895320" y="4089240"/>
            <a:ext cx="7467480" cy="129564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ttp://www.lancasterschools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957400" y="371520"/>
          <a:ext cx="3216240" cy="315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7400" y="371520"/>
                    <a:ext cx="321624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60520" y="2409840"/>
            <a:ext cx="6291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bcBulletin"/>
              </a:rPr>
              <a:t>Learning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AbcBulletin"/>
              </a:rPr>
              <a:t>Reading to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bcBulletin"/>
              </a:rPr>
              <a:t>Loving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9600" y="358920"/>
            <a:ext cx="88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Earwig Factory"/>
              </a:rPr>
              <a:t>Reading Worksho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69880" y="963720"/>
            <a:ext cx="6994800" cy="67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rehension Think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ma (making conne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ng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rehension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idea, details, cause &amp; eff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AG00030_" descr=""/>
          <p:cNvPicPr/>
          <p:nvPr/>
        </p:nvPicPr>
        <p:blipFill>
          <a:blip r:embed="rId8"/>
          <a:stretch/>
        </p:blipFill>
        <p:spPr>
          <a:xfrm>
            <a:off x="5556240" y="2620800"/>
            <a:ext cx="2246400" cy="21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06800" y="6462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omm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Comic Sans MS"/>
              </a:rPr>
              <a:t>F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orm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sess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7560" y="2359080"/>
            <a:ext cx="77724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- Informs in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- Helps plan instruction to meet the needs of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b200"/>
              </a:buClr>
              <a:buFont typeface="Abc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Targets individual studen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b200"/>
              </a:buClr>
              <a:buFont typeface="Abc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NYS ELA (multiple choice, constructed respon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b200"/>
              </a:buClr>
              <a:buFont typeface="Abc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6920" y="162000"/>
            <a:ext cx="1965240" cy="14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2760" y="519120"/>
            <a:ext cx="72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b200"/>
                </a:solidFill>
                <a:uFillTx/>
                <a:latin typeface="AbcBulletin"/>
              </a:rPr>
              <a:t>WRIT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09760" y="2386080"/>
            <a:ext cx="7093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Main Units of Stu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Personal Nar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Compare &amp; 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076136" descr=""/>
          <p:cNvPicPr/>
          <p:nvPr/>
        </p:nvPicPr>
        <p:blipFill>
          <a:blip r:embed="rId1"/>
          <a:stretch/>
        </p:blipFill>
        <p:spPr>
          <a:xfrm>
            <a:off x="5897520" y="4527720"/>
            <a:ext cx="20192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00720" y="3687840"/>
            <a:ext cx="4057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18960" y="192240"/>
            <a:ext cx="272124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mma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432160" y="5103720"/>
            <a:ext cx="26366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ll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74720" y="2363760"/>
            <a:ext cx="3954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ndwrit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Tempus Sans ITC"/>
              </a:rPr>
              <a:t>Math</a:t>
            </a:r>
            <a:r>
              <a:rPr b="0" lang="en-US" sz="7200" spc="-1" strike="noStrike">
                <a:solidFill>
                  <a:srgbClr val="000000"/>
                </a:solidFill>
                <a:latin typeface="Tempus Sans ITC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585800"/>
            <a:ext cx="9144000" cy="52722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Multiple strategies to solv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Math Facts ~ Pract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Hom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316080"/>
            <a:ext cx="1752840" cy="1171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105600" y="4021200"/>
            <a:ext cx="26668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79600"/>
          </a:xfrm>
          <a:prstGeom prst="rect">
            <a:avLst/>
          </a:prstGeom>
          <a:gradFill rotWithShape="0">
            <a:gsLst>
              <a:gs pos="0">
                <a:srgbClr val="756e2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Scienc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74920"/>
            <a:ext cx="9144000" cy="538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Butter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Buoy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Poll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230480" cy="1400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198108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276720" y="1828800"/>
            <a:ext cx="1981080" cy="131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562720" y="350532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3200400" y="3886200"/>
            <a:ext cx="17334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696080" y="4114800"/>
            <a:ext cx="107964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00320" y="53420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5370480"/>
            <a:ext cx="27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Hands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914400" y="0"/>
            <a:ext cx="123048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565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lephant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Countries Around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*Ge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*Gov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*Ec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*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461360" y="0"/>
            <a:ext cx="1682640" cy="1682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55520" y="2925720"/>
            <a:ext cx="2259000" cy="117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843600" y="3387600"/>
            <a:ext cx="2141640" cy="1438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45960" y="55832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7391520" y="5610240"/>
            <a:ext cx="1752480" cy="124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5:38:00Z</dcterms:created>
  <dc:creator>L.C.S.D.</dc:creator>
  <dc:description/>
  <dc:language>en-US</dc:language>
  <cp:lastModifiedBy>Smith</cp:lastModifiedBy>
  <dcterms:modified xsi:type="dcterms:W3CDTF">2010-09-01T01:54:59Z</dcterms:modified>
  <cp:revision>7</cp:revision>
  <dc:subject/>
  <dc:title>2004 School Calend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50831033</vt:lpwstr>
  </property>
</Properties>
</file>